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3A73-CCB1-4103-A7D4-AB0EE3BCB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1F8C-4634-4969-8ED1-1BC12B760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site/evo101/VSpeciation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38EF-824B-47EE-B79A-804FA25F5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ural - different courtship behavi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l - breed at different times of the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 - live in different 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- structures not compat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- male gametes recognize female gametes of same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D520-BC47-45EB-80CA-518CEBC14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 doe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develop properly - species of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brid if born, doe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survive to 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brid survives but is sterile (e.g., horse x donkey = m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870A-3B7C-4980-9893-C8DE3D7C9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site/evo101/VC1bAllopatric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DF83-3A63-4CBD-9CE9-C6A05D6B6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volution.berkeley.edu/evosite/evo101/VC1bAllopatric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e maggot flies;  fed on hawthorne, but apple introduced 200 years ago; 2 separate populations, have started to diverge gene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A1E0-8676-4F9F-BC89-75B646F5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7E66-ADB1-4840-8CF7-B8FB5914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021-CC8B-4193-BDF4-ABD5A04B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105-D47E-42C4-A63A-C2E0627C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273-C55B-4A66-BED5-F2E72DF5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94F-DA92-46BB-9C3E-CB0212B5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03C-07F3-49EA-AEE0-16379213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9F2-3E03-4060-995A-946B63EB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378-69C4-41E2-A071-3E57C292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AB3-69ED-4E7F-8DCC-52FEE36F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08B-5105-41FE-961B-AE2C31EE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B5E2-2497-4814-9CDF-D4478FA5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1590-63D0-4D82-9CC0-A282E1BF7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peci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spec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mbers of a population that can interbreed under natural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pecies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produc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sol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each other and do not exchange genet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ve Isolating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zygotic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fertilization &amp; zygote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zygotic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fertilized egg from growing into a viable and reproducing ad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zygotic Mech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ural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l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logical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cal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ic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zygotic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ic mort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brid inv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brid infer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beetlespeciation"/>
          <p:cNvPicPr/>
          <p:nvPr/>
        </p:nvPicPr>
        <p:blipFill>
          <a:blip r:embed="rId1"/>
          <a:stretch/>
        </p:blipFill>
        <p:spPr>
          <a:xfrm>
            <a:off x="685800" y="2430360"/>
            <a:ext cx="77724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ppleflies"/>
          <p:cNvPicPr/>
          <p:nvPr/>
        </p:nvPicPr>
        <p:blipFill>
          <a:blip r:embed="rId1"/>
          <a:stretch/>
        </p:blipFill>
        <p:spPr>
          <a:xfrm>
            <a:off x="1042920" y="1981080"/>
            <a:ext cx="705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1:38:44Z</dcterms:created>
  <dc:creator>rubina khan</dc:creator>
  <dc:description/>
  <dc:language>en-US</dc:language>
  <cp:lastModifiedBy>rubina khan</cp:lastModifiedBy>
  <dcterms:modified xsi:type="dcterms:W3CDTF">2016-01-06T15:50:33Z</dcterms:modified>
  <cp:revision>18</cp:revision>
  <dc:subject/>
  <dc:title>PowerPoint Presentation</dc:title>
</cp:coreProperties>
</file>